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EC2C-7DAF-450C-9D80-5FF120DF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03F-A899-4F1D-92F0-C34C5400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8A9-E92A-4A28-9ECF-AAEE5C36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489-BBAD-4577-8A8D-80CB8AB3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D78-E977-4787-8A51-296E24FC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30DF-81B9-4716-B5AE-659ED43A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E88-0BC3-4C14-B6C4-D9AF0E81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DE6-772E-4AB1-8D1F-00F0AFD0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23D7-6B51-4630-B9B1-8CEC2D7C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D3C-57B0-4AF1-A058-4217AAFF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F1F-06A7-473E-8829-F2853945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16D5-C654-476C-A9A4-FFD1B6A4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F0F-7F5F-4B90-AF3C-7CF9C45E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B80-9D07-4A18-BADF-4BAE22E2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C6DD-C922-4069-BAB2-66035B39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B08-26BE-405D-99EE-ED95565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291-ECBA-4A57-B407-1D863E38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9CD-5B6D-44A5-B58C-684E8151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98F-A9F5-4D8D-9C6A-ED43F67B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90F-8655-48A2-A8C1-AB28781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6A4-03BC-474F-B20D-A7202BD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5AA-4370-4278-AE65-F10A79F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8D3-BE06-4A07-8FF1-C8CE68C7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91D-A4D5-4419-8FAD-1277F99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250-DE44-4D72-95F1-43A2455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386-3FDC-47F8-99D5-6F042D3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1B6-202F-4435-BEF9-DFC1B37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94D-5300-4540-8B96-634E193E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8e4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47920" y="1295280"/>
            <a:ext cx="6476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e77"/>
                  </a:solidFill>
                  <a:miter/>
                </a:ln>
                <a:gradFill rotWithShape="0">
                  <a:gsLst>
                    <a:gs pos="0">
                      <a:srgbClr val="90bbc4"/>
                    </a:gs>
                    <a:gs pos="100000">
                      <a:srgbClr val="b9060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ETRY</a:t>
            </a:r>
            <a:endParaRPr b="0" lang="en-US" sz="2400" spc="1" strike="noStrike">
              <a:ln w="9360">
                <a:solidFill>
                  <a:srgbClr val="fffe77"/>
                </a:solidFill>
                <a:miter/>
              </a:ln>
              <a:gradFill rotWithShape="0">
                <a:gsLst>
                  <a:gs pos="0">
                    <a:srgbClr val="90bbc4"/>
                  </a:gs>
                  <a:gs pos="100000">
                    <a:srgbClr val="b9060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304920"/>
            <a:ext cx="168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49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562720" y="1219320"/>
            <a:ext cx="3276360" cy="176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 repeats a consonant over and over; e.g. ‘Betty bought some butter but the butter was bitter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6320" y="3686040"/>
            <a:ext cx="2438280" cy="289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‘Toothpaste’ and ‘Snail’ shape  poems use alliteration.  Write a shape poem from one of these ideas using alliteration:  A rugby ball, a snake, a flower, a ghost, a star, a banana, a pair of glasses, your cho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nail"/>
          <p:cNvPicPr/>
          <p:nvPr/>
        </p:nvPicPr>
        <p:blipFill>
          <a:blip r:embed="rId1"/>
          <a:stretch/>
        </p:blipFill>
        <p:spPr>
          <a:xfrm>
            <a:off x="228600" y="1143000"/>
            <a:ext cx="4724280" cy="226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toothpaste"/>
          <p:cNvPicPr/>
          <p:nvPr/>
        </p:nvPicPr>
        <p:blipFill>
          <a:blip r:embed="rId2"/>
          <a:stretch/>
        </p:blipFill>
        <p:spPr>
          <a:xfrm>
            <a:off x="2590920" y="3505320"/>
            <a:ext cx="6400800" cy="3128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1676520" y="15228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solidFill>
                  <a:srgbClr val="cc7b8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ape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solidFill>
                <a:srgbClr val="cc7b8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e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971800" y="228600"/>
            <a:ext cx="303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13b3b"/>
                  </a:solidFill>
                  <a:miter/>
                </a:ln>
                <a:solidFill>
                  <a:srgbClr val="b9f49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p</a:t>
            </a:r>
            <a:endParaRPr b="0" lang="en-US" sz="2400" spc="1" strike="noStrike">
              <a:ln w="12600">
                <a:solidFill>
                  <a:srgbClr val="c13b3b"/>
                </a:solidFill>
                <a:miter/>
              </a:ln>
              <a:solidFill>
                <a:srgbClr val="b9f49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80880" y="1828800"/>
            <a:ext cx="51818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self.  Use the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rite-a-Rap R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y, everybody, let’s write a r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there’s a rhythm you’ll need to cl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that rhythm and stay in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 a rap needs rhythm and a good strong rh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hat’ll we write?” I hear you sh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in’t no rules for what a rap’s ab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robber, you can rap about a ki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chewed up piece of str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ll, you can rap about almost …… anythi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rap_singers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5486400" y="1676520"/>
            <a:ext cx="32608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e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71800" y="228600"/>
            <a:ext cx="303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13b3b"/>
                  </a:solidFill>
                  <a:miter/>
                </a:ln>
                <a:solidFill>
                  <a:srgbClr val="b9f49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p</a:t>
            </a:r>
            <a:endParaRPr b="0" lang="en-US" sz="2400" spc="1" strike="noStrike">
              <a:ln w="12600">
                <a:solidFill>
                  <a:srgbClr val="c13b3b"/>
                </a:solidFill>
                <a:miter/>
              </a:ln>
              <a:solidFill>
                <a:srgbClr val="b9f49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1828800"/>
            <a:ext cx="51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09480" y="1752480"/>
            <a:ext cx="56390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e ceiling, you can rap about the flo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e window, write a rap on the do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ings that are mean or pleasa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wrapping up a Christma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mystery hidden in a bo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pair of smelly old s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something that’s over and g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something that’s going on and on an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hen you think there just ain’t nothing left to say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wrap it all up and put it a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a rap.  It’s a rap.  It’s a rap rap rap rap RAP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ony M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p_singers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6172200" y="2133720"/>
            <a:ext cx="2641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0bb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9f490"/>
                  </a:solidFill>
                  <a:miter/>
                </a:ln>
                <a:solidFill>
                  <a:srgbClr val="cc7b8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oem to Perform</a:t>
            </a:r>
            <a:endParaRPr b="0" lang="en-US" sz="2400" spc="1" strike="noStrike">
              <a:ln w="19080">
                <a:solidFill>
                  <a:srgbClr val="b9f490"/>
                </a:solidFill>
                <a:miter/>
              </a:ln>
              <a:solidFill>
                <a:srgbClr val="cc7b8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3520" y="1523880"/>
            <a:ext cx="792468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notes to help you write a rap about the Treaty (at least 8 lines lo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: things that happened that are not fair (protest) or use some of the ideas from the leaves off the ‘poet-tree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draft fir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1 The Treaty is ………..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2 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8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reading your rap and clap the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nything you need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your rap to the class, using expression, timing, volume, spee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Pac Feat. G-Unit - L#D1723.mp3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0221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38088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e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meric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e7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1981080"/>
            <a:ext cx="8001000" cy="82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merick is a fun poem that has five lines.  Lines one, two and five have three strong downbeats and the ends rhyme.  Lines three and four have two strong downbeats and rh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80880" y="3124080"/>
            <a:ext cx="41911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T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boy named O’T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idn’t act smart when at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ried to read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ot dirty look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 grew up to be quite a f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181480" y="3048120"/>
            <a:ext cx="373392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a Maria from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ted to sing and to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he boogied on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nd awful displ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er neighbour set fire to her p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362320" y="6070680"/>
            <a:ext cx="4038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ry write your own limer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7620120" y="5638680"/>
            <a:ext cx="1523880" cy="117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76320" y="5638680"/>
            <a:ext cx="1245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IN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tertain and extend the writer’s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00200" y="1981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800" y="2895480"/>
            <a:ext cx="7848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enjoyment of different kinds of po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your skills in analysing po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the influence of culture and experience on po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, recognise and use patterns in a variety of poetry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with the effects created b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quality of sounds produced by rhythm, rhyme, and allit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use of similes, metaphors, and figurative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ems you have read as models for your own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04920" y="1295280"/>
            <a:ext cx="15238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905120" y="121932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s a story or describes a person or thing.  Has a regular rhyme pattern, very often having four lines per verse, with the 2nd and 4th lines rhyming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05120" y="207324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used to create an atmosphere and express mood or feeling.  Has an irregular rhy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81080" y="2971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981080" y="2971800"/>
            <a:ext cx="678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nit of verse consisting of words in a single 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981080" y="38098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se of a po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905120" y="457200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em that has 14 lines and its usual rhyme scheme is abbaabba, followed by two or three other rhymes in the remaining six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905120" y="5410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ivision of a po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057400" y="63244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rest of unit for more vocabulary relating to poetr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0bb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IMG_1265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2438280"/>
            <a:ext cx="4971960" cy="3729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1219320" y="5335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5e143"/>
                  </a:solidFill>
                  <a:miter/>
                </a:ln>
                <a:gradFill rotWithShape="0">
                  <a:gsLst>
                    <a:gs pos="0">
                      <a:srgbClr val="b9f49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rostic Poem</a:t>
            </a:r>
            <a:endParaRPr b="0" lang="en-US" sz="2400" spc="1" strike="noStrike">
              <a:ln w="19080">
                <a:solidFill>
                  <a:srgbClr val="f5e143"/>
                </a:solidFill>
                <a:miter/>
              </a:ln>
              <a:gradFill rotWithShape="0">
                <a:gsLst>
                  <a:gs pos="0">
                    <a:srgbClr val="b9f49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80880" y="2362320"/>
            <a:ext cx="3353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867280" y="2514600"/>
            <a:ext cx="2667240" cy="270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e your own Acrostic Poem using your name and/or surnam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066680" y="6094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0bbc4"/>
                  </a:solidFill>
                  <a:miter/>
                </a:ln>
                <a:gradFill rotWithShape="0">
                  <a:gsLst>
                    <a:gs pos="0">
                      <a:srgbClr val="fffe7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phors</a:t>
            </a:r>
            <a:endParaRPr b="0" lang="en-US" sz="2400" spc="1" strike="noStrike">
              <a:ln w="19080">
                <a:solidFill>
                  <a:srgbClr val="90bbc4"/>
                </a:solidFill>
                <a:miter/>
              </a:ln>
              <a:gradFill rotWithShape="0">
                <a:gsLst>
                  <a:gs pos="0">
                    <a:srgbClr val="fffe7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2209680"/>
            <a:ext cx="883944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taphor compares two unlike things using the words ‘is or was’; e.g. ‘He is a computer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3520" y="3352680"/>
            <a:ext cx="822960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ach sentence and write a metaphor for each. 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fa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a speed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a warm per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pret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gen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s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934320" y="3886200"/>
            <a:ext cx="1881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49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143000" y="60948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gradFill rotWithShape="0">
                  <a:gsLst>
                    <a:gs pos="0">
                      <a:srgbClr val="90bb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gradFill rotWithShape="0">
                <a:gsLst>
                  <a:gs pos="0">
                    <a:srgbClr val="90bb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2133720"/>
            <a:ext cx="495288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playground just before lunc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fog as it swirls around the ho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colour of the shells lying on the beach i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rainy spray on an afternoon 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soft coat on my m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gr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nd most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my tired mum’s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400800" y="3124080"/>
            <a:ext cx="228600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Y-chart to determine what your chosen colour looks, feels and sounds like.  Then write a colour poem using metaphors (not the words directly from the Y-char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e7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828800" y="53352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9f49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i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b9f49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1905120"/>
            <a:ext cx="830592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ile compares two unlike things using the words ‘like’ or ‘as’; e.g. ‘My friend is like a diamond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" y="3200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80880" y="3144960"/>
            <a:ext cx="8305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ach sentence and write a simile for each. 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hines like ……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aughs like a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ddled like a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owd poured into Jade Stadium like ……… into a padd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ig as a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ers lumbered like …….. through mud to get to the try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clung like a ……. to his surfbo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bb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981080" y="609480"/>
            <a:ext cx="6324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solidFill>
                  <a:srgbClr val="78e44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ile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solidFill>
                <a:srgbClr val="78e44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2438280"/>
            <a:ext cx="4267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 OF A GREYH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ad like a sn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ck like a d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ck like a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elly like a b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ot like a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il like a 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029200" y="3200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867280" y="4343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odel to write your own simile po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tn_greyhound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3b3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295280" y="533520"/>
            <a:ext cx="7010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78e448"/>
                  </a:solidFill>
                  <a:miter/>
                </a:ln>
                <a:solidFill>
                  <a:srgbClr val="90bbc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ative Language</a:t>
            </a:r>
            <a:endParaRPr b="0" lang="en-US" sz="2400" spc="1" strike="noStrike">
              <a:ln w="19080">
                <a:solidFill>
                  <a:srgbClr val="78e448"/>
                </a:solidFill>
                <a:miter/>
              </a:ln>
              <a:solidFill>
                <a:srgbClr val="90bbc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80880" y="1600200"/>
            <a:ext cx="8382240" cy="1526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l language is meaning exactly what you say; e.g. Go jump in the l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ative language is saying one thing and meaning another; e.g. ‘Go jump in a lake!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0880" y="3505320"/>
            <a:ext cx="3733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the meaning of these sentences be if you took them literal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st was a real kill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you chill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give me a brea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boy is two-fac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friend drives me up the w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724280" y="3505320"/>
            <a:ext cx="42674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sentences and decide if they should be taken literally (L) or figuratively (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was the apple of my e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was very 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had a mouth like a speedbo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a crush on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was a very good stu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a bleeding heart for an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1:27:11Z</dcterms:created>
  <dc:creator>Apple Education</dc:creator>
  <dc:description/>
  <dc:language>en-US</dc:language>
  <cp:lastModifiedBy>administrator</cp:lastModifiedBy>
  <dcterms:modified xsi:type="dcterms:W3CDTF">2010-10-17T18:36:49Z</dcterms:modified>
  <cp:revision>15</cp:revision>
  <dc:subject/>
  <dc:title>PowerPoint Presentation</dc:title>
</cp:coreProperties>
</file>